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14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 type="sldNum" idx="15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FB92-3A62-4030-ABC6-A3B5144D5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09F6-7397-40B2-815F-9A7015F7D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104B-38AB-44C9-A8EA-B7ABBD00F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114-1744-4790-98FC-B5E65A12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CDA-12BD-44B2-A891-E0C206C5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D59-BE9C-4D95-B37E-EFEC85E5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567-A350-488B-B5B9-CB63BE77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88B0-89B6-4C8B-AC6C-22470A06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B7AB-A229-453B-9927-CA815E27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9097-B3FB-42D9-AD0F-809C59C3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1CC3-8277-4CE6-AC07-E3E6A91D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3F2A-1F5A-4AC7-A683-0CBF46B7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D8E0-9ECF-492E-B8C0-24786017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A93-D472-44FE-803C-8DDD0799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0639-4608-4B80-8A38-33526075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2C3B-DCB6-41EB-9E3D-EE763BD5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1BDB-4B0B-4DDF-8FAC-5B0E841B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81D2-8429-4377-BC84-681B7FA9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BC2B-E5A0-4F1D-A083-D157FCD2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FC48-C168-4695-BBAC-8C4A5104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3D22-322D-498E-A0B9-6388B754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1E58-0B8B-40BB-B932-11AF42EF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B4E0-8D62-42EE-8DA3-7F23716C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7260-DAA3-4C66-B1D8-2D8BD23C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3E59-EC86-4ECE-B28C-E55D33AA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92200-F4BB-4C28-8153-1592A8C2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0E787-17A4-4C70-B086-422E36EB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B9822-EA7D-40B6-9388-F226502F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CAD9A-1897-4763-8AA8-9D9F5799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CEB90-C4E8-4655-ADB3-8F8F29EA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15E15-F8B8-46F9-AD8C-D411DE71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747EF-81B5-4279-A2F7-0AF20E5F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4FA0E-2C3E-44C4-B49E-E9003645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1ADBB-645C-4332-AA71-D648BD20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93160-2365-4F34-B864-CE31F3C8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601-EE32-4CBD-870F-8E5E593D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0F611-F2EA-4203-A148-C78DBF15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FFC62-50D7-4CC3-9930-83850097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39D6-E154-4B71-A25E-7B6221BF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E150A-7352-43C6-8EE3-E417D646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CB6A2-7B55-4075-92E4-E24AB399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CBDF0-7EBE-4911-B8E8-C646887C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95758-4FCE-45FC-B9D8-C9F4EEE0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32CC4-D79F-445E-BFE5-B5AC72A0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90A6E-9471-48D8-86F8-8227469C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19179-B1B2-4484-A4E9-F91529F8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622-8B66-4D10-8B35-5657CC5F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80791-4467-486F-BAC7-F169246F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081-5CB4-47D0-9B2F-9FCC579A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19A-4AD2-4ACB-AEF2-8C0CD5CE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AB8-2FF1-4693-8B17-2B5545C7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51DF-353F-4842-AE88-96599F792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7"/>
          <p:cNvSpPr/>
          <p:nvPr/>
        </p:nvSpPr>
        <p:spPr>
          <a:xfrm>
            <a:off x="-304920" y="304920"/>
            <a:ext cx="1524240" cy="15238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447920" y="2666880"/>
            <a:ext cx="83808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1143000" y="403848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676520" y="4343400"/>
            <a:ext cx="228600" cy="2286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304920" y="548640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2743200" y="58672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3"/>
          <p:cNvSpPr/>
          <p:nvPr/>
        </p:nvSpPr>
        <p:spPr>
          <a:xfrm>
            <a:off x="8077320" y="5105520"/>
            <a:ext cx="1143000" cy="11430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4"/>
          <p:cNvSpPr/>
          <p:nvPr/>
        </p:nvSpPr>
        <p:spPr>
          <a:xfrm>
            <a:off x="7924680" y="426708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5"/>
          <p:cNvSpPr/>
          <p:nvPr/>
        </p:nvSpPr>
        <p:spPr>
          <a:xfrm>
            <a:off x="8229600" y="68580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6"/>
          <p:cNvSpPr/>
          <p:nvPr/>
        </p:nvSpPr>
        <p:spPr>
          <a:xfrm>
            <a:off x="7238880" y="4724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7"/>
          <p:cNvSpPr/>
          <p:nvPr/>
        </p:nvSpPr>
        <p:spPr>
          <a:xfrm>
            <a:off x="7543800" y="-152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8"/>
          <p:cNvSpPr/>
          <p:nvPr/>
        </p:nvSpPr>
        <p:spPr>
          <a:xfrm>
            <a:off x="6858000" y="9144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9"/>
          <p:cNvSpPr/>
          <p:nvPr/>
        </p:nvSpPr>
        <p:spPr>
          <a:xfrm>
            <a:off x="6629400" y="45720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0"/>
          <p:cNvSpPr/>
          <p:nvPr/>
        </p:nvSpPr>
        <p:spPr>
          <a:xfrm>
            <a:off x="6477120" y="838080"/>
            <a:ext cx="228600" cy="2286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1"/>
          <p:cNvSpPr/>
          <p:nvPr/>
        </p:nvSpPr>
        <p:spPr>
          <a:xfrm>
            <a:off x="7010280" y="2971800"/>
            <a:ext cx="381240" cy="3808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2"/>
          <p:cNvSpPr/>
          <p:nvPr/>
        </p:nvSpPr>
        <p:spPr>
          <a:xfrm>
            <a:off x="2666880" y="152280"/>
            <a:ext cx="381240" cy="38124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7"/>
          <p:cNvSpPr/>
          <p:nvPr/>
        </p:nvSpPr>
        <p:spPr>
          <a:xfrm>
            <a:off x="3276720" y="472428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larendon Light"/>
              </a:rPr>
              <a:t>Be th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9" descr="HON_CMYK_Central"/>
          <p:cNvPicPr/>
          <p:nvPr/>
        </p:nvPicPr>
        <p:blipFill>
          <a:blip r:embed="rId2"/>
          <a:srcRect l="40911" t="32353" r="38638" b="32353"/>
          <a:stretch/>
        </p:blipFill>
        <p:spPr>
          <a:xfrm>
            <a:off x="3486240" y="1752480"/>
            <a:ext cx="2209680" cy="2946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4"/>
          <p:cNvSpPr/>
          <p:nvPr/>
        </p:nvSpPr>
        <p:spPr>
          <a:xfrm>
            <a:off x="3352680" y="5029200"/>
            <a:ext cx="2210040" cy="2209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5799504-2643x1852"/>
          <p:cNvPicPr/>
          <p:nvPr/>
        </p:nvPicPr>
        <p:blipFill>
          <a:blip r:embed="rId2"/>
          <a:stretch/>
        </p:blipFill>
        <p:spPr>
          <a:xfrm>
            <a:off x="4419720" y="1981080"/>
            <a:ext cx="4419360" cy="4416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HON_CMYK_Central"/>
          <p:cNvPicPr/>
          <p:nvPr/>
        </p:nvPicPr>
        <p:blipFill>
          <a:blip r:embed="rId3"/>
          <a:srcRect l="40152" t="31375" r="38638" b="32353"/>
          <a:stretch/>
        </p:blipFill>
        <p:spPr>
          <a:xfrm>
            <a:off x="1066680" y="5029200"/>
            <a:ext cx="990720" cy="1257480"/>
          </a:xfrm>
          <a:prstGeom prst="rect">
            <a:avLst/>
          </a:prstGeom>
          <a:ln w="0">
            <a:noFill/>
          </a:ln>
        </p:spPr>
      </p:pic>
      <p:sp>
        <p:nvSpPr>
          <p:cNvPr id="100" name="Oval 15"/>
          <p:cNvSpPr/>
          <p:nvPr/>
        </p:nvSpPr>
        <p:spPr>
          <a:xfrm>
            <a:off x="8610480" y="54864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6"/>
          <p:cNvSpPr/>
          <p:nvPr/>
        </p:nvSpPr>
        <p:spPr>
          <a:xfrm>
            <a:off x="228600" y="2286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7"/>
          <p:cNvSpPr/>
          <p:nvPr/>
        </p:nvSpPr>
        <p:spPr>
          <a:xfrm>
            <a:off x="8153280" y="59436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8"/>
          <p:cNvSpPr/>
          <p:nvPr/>
        </p:nvSpPr>
        <p:spPr>
          <a:xfrm>
            <a:off x="8839080" y="5943600"/>
            <a:ext cx="152640" cy="1522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9"/>
          <p:cNvSpPr/>
          <p:nvPr/>
        </p:nvSpPr>
        <p:spPr>
          <a:xfrm>
            <a:off x="-152280" y="3352680"/>
            <a:ext cx="304560" cy="30492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0"/>
          <p:cNvSpPr/>
          <p:nvPr/>
        </p:nvSpPr>
        <p:spPr>
          <a:xfrm>
            <a:off x="8381880" y="457200"/>
            <a:ext cx="533520" cy="533520"/>
          </a:xfrm>
          <a:prstGeom prst="ellipse">
            <a:avLst/>
          </a:prstGeom>
          <a:solidFill>
            <a:srgbClr val="66b5d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B640-66C0-4ECE-A0C1-46A6C499C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3352680" y="5029200"/>
            <a:ext cx="2210040" cy="2209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5" descr="11314373-1594x2400"/>
          <p:cNvPicPr/>
          <p:nvPr/>
        </p:nvPicPr>
        <p:blipFill>
          <a:blip r:embed="rId2"/>
          <a:stretch/>
        </p:blipFill>
        <p:spPr>
          <a:xfrm>
            <a:off x="4038480" y="1752480"/>
            <a:ext cx="4660920" cy="4657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HON_CMYK_Central"/>
          <p:cNvPicPr/>
          <p:nvPr/>
        </p:nvPicPr>
        <p:blipFill>
          <a:blip r:embed="rId3"/>
          <a:srcRect l="40152" t="31375" r="38638" b="32353"/>
          <a:stretch/>
        </p:blipFill>
        <p:spPr>
          <a:xfrm>
            <a:off x="1066680" y="5029200"/>
            <a:ext cx="990720" cy="1257480"/>
          </a:xfrm>
          <a:prstGeom prst="rect">
            <a:avLst/>
          </a:prstGeom>
          <a:ln w="0">
            <a:noFill/>
          </a:ln>
        </p:spPr>
      </p:pic>
      <p:sp>
        <p:nvSpPr>
          <p:cNvPr id="151" name="Oval 9"/>
          <p:cNvSpPr/>
          <p:nvPr/>
        </p:nvSpPr>
        <p:spPr>
          <a:xfrm>
            <a:off x="8610480" y="54864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228600" y="2286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8153280" y="59436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8839080" y="5943600"/>
            <a:ext cx="152640" cy="1522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-152280" y="3352680"/>
            <a:ext cx="304560" cy="30492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8381880" y="457200"/>
            <a:ext cx="533520" cy="533520"/>
          </a:xfrm>
          <a:prstGeom prst="ellipse">
            <a:avLst/>
          </a:prstGeom>
          <a:solidFill>
            <a:srgbClr val="66b5d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5A8B-D11B-4BCA-9C32-1071995C7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Oval 9"/>
          <p:cNvSpPr/>
          <p:nvPr/>
        </p:nvSpPr>
        <p:spPr>
          <a:xfrm>
            <a:off x="-533520" y="380880"/>
            <a:ext cx="2187720" cy="2187720"/>
          </a:xfrm>
          <a:prstGeom prst="ellipse">
            <a:avLst/>
          </a:prstGeom>
          <a:solidFill>
            <a:srgbClr val="d2db61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HON_CMYK_Central"/>
          <p:cNvPicPr/>
          <p:nvPr/>
        </p:nvPicPr>
        <p:blipFill>
          <a:blip r:embed="rId2"/>
          <a:srcRect l="40152" t="31375" r="38638" b="32353"/>
          <a:stretch/>
        </p:blipFill>
        <p:spPr>
          <a:xfrm>
            <a:off x="739152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02" name="Oval 13"/>
          <p:cNvSpPr/>
          <p:nvPr/>
        </p:nvSpPr>
        <p:spPr>
          <a:xfrm>
            <a:off x="8381880" y="4114800"/>
            <a:ext cx="1067040" cy="1066680"/>
          </a:xfrm>
          <a:prstGeom prst="ellipse">
            <a:avLst/>
          </a:prstGeom>
          <a:solidFill>
            <a:srgbClr val="96908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1AC8-FA27-4558-83CA-BE1528140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4" descr="HON_CMYK_Central"/>
          <p:cNvPicPr/>
          <p:nvPr/>
        </p:nvPicPr>
        <p:blipFill>
          <a:blip r:embed="rId2"/>
          <a:srcRect l="40152" t="31375" r="38638" b="32353"/>
          <a:stretch/>
        </p:blipFill>
        <p:spPr>
          <a:xfrm>
            <a:off x="739152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Oval 4"/>
          <p:cNvSpPr/>
          <p:nvPr/>
        </p:nvSpPr>
        <p:spPr>
          <a:xfrm>
            <a:off x="609480" y="2286000"/>
            <a:ext cx="2286000" cy="22860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3429000" y="2286000"/>
            <a:ext cx="2286000" cy="22860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324480" y="2286000"/>
            <a:ext cx="2286000" cy="22860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Oval 4"/>
          <p:cNvSpPr/>
          <p:nvPr/>
        </p:nvSpPr>
        <p:spPr>
          <a:xfrm>
            <a:off x="2362320" y="1143000"/>
            <a:ext cx="4724280" cy="472428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6"/>
          <p:cNvSpPr/>
          <p:nvPr/>
        </p:nvSpPr>
        <p:spPr>
          <a:xfrm>
            <a:off x="609480" y="6094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152280" y="3657600"/>
            <a:ext cx="381240" cy="3808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8458200" y="5105520"/>
            <a:ext cx="422280" cy="4222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8534520" y="4572000"/>
            <a:ext cx="225360" cy="22536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1219320" y="4343400"/>
            <a:ext cx="685800" cy="6858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7467480" y="380880"/>
            <a:ext cx="83844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1770120" y="1008000"/>
            <a:ext cx="193680" cy="193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2424240" y="6157800"/>
            <a:ext cx="298440" cy="29844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6934320" y="914400"/>
            <a:ext cx="298440" cy="29844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7270920" y="5823000"/>
            <a:ext cx="469800" cy="4698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6"/>
          <p:cNvSpPr/>
          <p:nvPr/>
        </p:nvSpPr>
        <p:spPr>
          <a:xfrm>
            <a:off x="609480" y="5715000"/>
            <a:ext cx="685800" cy="6858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7"/>
          <p:cNvSpPr/>
          <p:nvPr/>
        </p:nvSpPr>
        <p:spPr>
          <a:xfrm>
            <a:off x="8305920" y="6477120"/>
            <a:ext cx="193680" cy="193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8"/>
          <p:cNvSpPr/>
          <p:nvPr/>
        </p:nvSpPr>
        <p:spPr>
          <a:xfrm>
            <a:off x="2438280" y="228600"/>
            <a:ext cx="374760" cy="37476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7"/>
          <p:cNvSpPr/>
          <p:nvPr/>
        </p:nvSpPr>
        <p:spPr>
          <a:xfrm>
            <a:off x="-304920" y="304920"/>
            <a:ext cx="1524240" cy="15238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8"/>
          <p:cNvSpPr/>
          <p:nvPr/>
        </p:nvSpPr>
        <p:spPr>
          <a:xfrm>
            <a:off x="1447920" y="2666880"/>
            <a:ext cx="83808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9"/>
          <p:cNvSpPr/>
          <p:nvPr/>
        </p:nvSpPr>
        <p:spPr>
          <a:xfrm>
            <a:off x="1143000" y="403848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0"/>
          <p:cNvSpPr/>
          <p:nvPr/>
        </p:nvSpPr>
        <p:spPr>
          <a:xfrm>
            <a:off x="1676520" y="4343400"/>
            <a:ext cx="228600" cy="2286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304920" y="548640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2"/>
          <p:cNvSpPr/>
          <p:nvPr/>
        </p:nvSpPr>
        <p:spPr>
          <a:xfrm>
            <a:off x="2743200" y="58672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3"/>
          <p:cNvSpPr/>
          <p:nvPr/>
        </p:nvSpPr>
        <p:spPr>
          <a:xfrm>
            <a:off x="8077320" y="5105520"/>
            <a:ext cx="1143000" cy="11430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4"/>
          <p:cNvSpPr/>
          <p:nvPr/>
        </p:nvSpPr>
        <p:spPr>
          <a:xfrm>
            <a:off x="7924680" y="426708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5"/>
          <p:cNvSpPr/>
          <p:nvPr/>
        </p:nvSpPr>
        <p:spPr>
          <a:xfrm>
            <a:off x="8229600" y="68580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7238880" y="4724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7543800" y="-152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6858000" y="9144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9"/>
          <p:cNvSpPr/>
          <p:nvPr/>
        </p:nvSpPr>
        <p:spPr>
          <a:xfrm>
            <a:off x="6629400" y="45720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0"/>
          <p:cNvSpPr/>
          <p:nvPr/>
        </p:nvSpPr>
        <p:spPr>
          <a:xfrm>
            <a:off x="6477120" y="838080"/>
            <a:ext cx="228600" cy="2286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1"/>
          <p:cNvSpPr/>
          <p:nvPr/>
        </p:nvSpPr>
        <p:spPr>
          <a:xfrm>
            <a:off x="7010280" y="2971800"/>
            <a:ext cx="381240" cy="3808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2"/>
          <p:cNvSpPr/>
          <p:nvPr/>
        </p:nvSpPr>
        <p:spPr>
          <a:xfrm>
            <a:off x="2666880" y="152280"/>
            <a:ext cx="381240" cy="38124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9" descr="HON_CMYK_Central"/>
          <p:cNvPicPr/>
          <p:nvPr/>
        </p:nvPicPr>
        <p:blipFill>
          <a:blip r:embed="rId1"/>
          <a:srcRect l="40911" t="32353" r="38638" b="32353"/>
          <a:stretch/>
        </p:blipFill>
        <p:spPr>
          <a:xfrm>
            <a:off x="3486240" y="1752480"/>
            <a:ext cx="2209680" cy="294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at services do they n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11430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Of these over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20,000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calls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14,988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are represented in these top 30 referred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TextBox 3" descr="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748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ow are these resources manag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37720" y="1905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Two Resource Analysts maintain the </a:t>
            </a:r>
            <a:r>
              <a:rPr b="0" lang="en-US" sz="22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 data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Over 1000 agencies offering over 5000 serv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Standards require that each agency is formally updated once a y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We work to develop relationships with each agency so that as programs change, we’re notified and can update listings on an ongoing ba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New agencies are added on a daily basis. We learn about new organizations from newspapers, newsletters and community fairs and ev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2-1-1 On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377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’s database- Online. </a:t>
            </a:r>
            <a:r>
              <a:rPr b="0" lang="en-US" sz="2400" spc="-1" strike="noStrike">
                <a:solidFill>
                  <a:srgbClr val="66b5d9"/>
                </a:solidFill>
                <a:latin typeface="Calibri"/>
                <a:ea typeface="Calibri"/>
              </a:rPr>
              <a:t>2-1-1 Online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provides immediate access to our entire database of human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vailable on a subscription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an be accessed through any computer with an internet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llows subscribers to obtain the most accurate, up-to-date and reliable information on community program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llows us to provide information on seasonal programs and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" descr="twitter_newbird_boxed_blueonwhite.png"/>
          <p:cNvPicPr/>
          <p:nvPr/>
        </p:nvPicPr>
        <p:blipFill>
          <a:blip r:embed="rId1"/>
          <a:stretch/>
        </p:blipFill>
        <p:spPr>
          <a:xfrm>
            <a:off x="1219320" y="25909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Get Connec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52280" y="14475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facebook.com/handsoncentral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twitter.com/</a:t>
            </a:r>
            <a:r>
              <a:rPr b="0" lang="en-US" sz="2400" spc="-1" strike="noStrike">
                <a:solidFill>
                  <a:srgbClr val="66b5d9"/>
                </a:solidFill>
                <a:latin typeface="Gotham Book"/>
              </a:rPr>
              <a:t>handsoncntrl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handsoncentralohio.blogspot.co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tham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1728669589.png"/>
          <p:cNvPicPr/>
          <p:nvPr/>
        </p:nvPicPr>
        <p:blipFill>
          <a:blip r:embed="rId2"/>
          <a:stretch/>
        </p:blipFill>
        <p:spPr>
          <a:xfrm>
            <a:off x="1371600" y="1752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blogspot icon.jpg"/>
          <p:cNvPicPr/>
          <p:nvPr/>
        </p:nvPicPr>
        <p:blipFill>
          <a:blip r:embed="rId3"/>
          <a:stretch/>
        </p:blipFill>
        <p:spPr>
          <a:xfrm>
            <a:off x="1371600" y="3581280"/>
            <a:ext cx="68904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o is HandsOn Central Oh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Over 35 years ago, two collaborating organizations, Volunteer Action Center (VAC) and Caring Answering Listening Linking (CALL) merged to form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CALLVAC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5b554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 1995, CALLVAC took the nam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FIRSTLINK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, signifying their presence as the go to organization for information and referral and volunteer connection.</a:t>
            </a:r>
            <a:br>
              <a:rPr sz="2400"/>
            </a:br>
            <a:r>
              <a:rPr b="0" lang="en-US" sz="2400" spc="-1" strike="noStrike">
                <a:solidFill>
                  <a:srgbClr val="5b554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 April of 2010, FIRSTLINK joined the national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Network as the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ffiliate, tapping into national resources at a local level of eng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at does HandsOn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i="1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spires, equips and mobilizes people to create meaningful change in their lives and in their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nnect volunteers to civic engagement opportunities, and coordinate service events for local organ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Link Franklin County residents in need to critical community resources</a:t>
            </a:r>
            <a:r>
              <a:rPr b="1" i="1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5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larendon Light"/>
              </a:rPr>
              <a:t> </a:t>
            </a: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ow do we fulfill our mi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61760" y="13716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engages volunteers and connects those in need through our program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RSVP and Foster Grand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Dental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Non-Profit Capacit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mmunity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Disaster Prepar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-1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-1-1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andsOn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RSVP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and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Foster Grandparent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Volunteer service projects and mentoring opportunities for adults 55 years and 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Dental OPTION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Partnership between Ohio Dental Association and the Ohio Department of Health, connects people to dentists who have agreed to provide free or reduced cost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Non-Profit Training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Non-Profit Leadership Certificate program teaches board development, volunteer and nonprofit management, grant writing and strategic pl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Disaster Preparednes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Trains individuals to become a member of Franklin County Citizen Corps and how to respond and effectively volunteer in the event of a dis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Community Eng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33520" y="18284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nnects interested volunteers and organizations with meaningful service opportuniti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Volunteer database of over 2100 ongoing opportunities. These consist of both one-time and continuing engag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Project Calendar allows volunteers to learn about and register for individual or continuing opportunities, and allows organizations to go online an create their own lis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National Days of Service, Make A Differenc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rporate manag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2-1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377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is Franklin County’s 2-1-1 comprehensive information and referral line, connecting our neighbors to various services and basic human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formation and Referral (I&amp;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Foo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Earned Income Tax Credit (EI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Homeowner Hel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y are people cal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Content Placeholder 5" descr=""/>
          <p:cNvPicPr/>
          <p:nvPr/>
        </p:nvPicPr>
        <p:blipFill>
          <a:blip r:embed="rId1"/>
          <a:stretch/>
        </p:blipFill>
        <p:spPr>
          <a:xfrm>
            <a:off x="330120" y="1320840"/>
            <a:ext cx="8483760" cy="4673520"/>
          </a:xfrm>
          <a:prstGeom prst="rect">
            <a:avLst/>
          </a:prstGeom>
          <a:ln w="0">
            <a:noFill/>
          </a:ln>
        </p:spPr>
      </p:pic>
      <p:sp>
        <p:nvSpPr>
          <p:cNvPr id="416" name="TextBox 6"/>
          <p:cNvSpPr/>
          <p:nvPr/>
        </p:nvSpPr>
        <p:spPr>
          <a:xfrm>
            <a:off x="2057400" y="5486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0, 575 calls in this 6 month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Information and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37720" y="17521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all Specialists access a comprehensive database to assist callers 24 hours a day, 7 days a w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Basic Human Needs- Housing, Utilities, Seasonal Programs, Materi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Physical and 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Support for older adults and persons with 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Support for children, youth and famil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5:32:24Z</dcterms:created>
  <dc:creator>Marjie Bland</dc:creator>
  <dc:description/>
  <dc:language>en-US</dc:language>
  <cp:lastModifiedBy>Kimberly White</cp:lastModifiedBy>
  <dcterms:modified xsi:type="dcterms:W3CDTF">2011-04-30T02:09:49Z</dcterms:modified>
  <cp:revision>156</cp:revision>
  <dc:subject/>
  <dc:title>Slide 1</dc:title>
</cp:coreProperties>
</file>