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ftr" idx="14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 type="sldNum" idx="15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35D8-D402-42C6-AE90-DB8C50A2D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65D1-FFEB-4CF0-81DF-9F5EB65E9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5E10-8F46-4485-9F38-0B7A025D7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040F-F29E-457B-92C9-030FE68D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49BF-2BE3-43B1-AA31-B46AD977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3117-3D82-4B3F-833E-20304225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4208-78D9-41AD-822F-9C0CFDCC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E955-290D-439C-ADCB-138B2427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D56E-C07D-4EAB-8E6A-1CF74961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BD7E-C8AB-40F9-A4E1-F4C1E3E2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B700-25C9-4127-BB95-F67F003E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C1CD-A668-4E83-A246-9DAC084C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82D1-631C-4401-8DA0-7BD7BD95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8584-CEC4-4837-A55D-2AB349FB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F9C5-93B2-4696-8C24-65E8B584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CE8B-2658-4D95-A9C6-965DAA55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3A0C-89E0-401D-BC95-D0925327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2F84-B02E-4570-9BBC-FBC99A72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FADF-BDEC-4C2D-B717-992466F9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3D6A-E8A9-414E-8D3A-F8118789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4674-5243-4983-A5E8-65F3FD5F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4C41D-DF86-4B5D-A74B-D49CF498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6EF3B-1825-456D-B43E-15C8B465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37A56-98C3-4DF9-A910-2CC356A7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D47A-D909-447E-AB46-26EAC31F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46B21-A336-4659-9F23-CF4E5C53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17969-E691-4581-B6EF-A9866EC1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BB5B1-B45C-4A2D-91C4-6BC9844C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16E29-31BC-44C2-9EAF-828386CF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FD509-FA87-4D6B-8ABC-B518E9F8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00ACF-4448-4815-9095-EB9556D5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99BA8-154F-4FE9-A0AA-795D30A6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E3ECE-0B56-4EF5-80F1-B1E3755F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9C494-A58E-4F47-AC59-2B296453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7F042-7F32-4B7A-8B31-37D065A0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F379-5924-4C0E-A87A-7BD620DB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148ED-24E4-42E8-9882-EE81DBD7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82374-85A8-4682-92F4-57E56A36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10AFD-7B30-4C51-8EDA-6A7CEF3B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0E5D6-3B64-467A-8DEE-C2F2543B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63026-1519-481B-A326-487CE198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D5EDD-AB38-4204-9253-3F5C451D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A009C-4C06-42D8-A5E3-ACF5A603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1F0AC-2252-4D02-978F-E6EDBC71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46BC2-B3E4-4DCA-8B33-EEF6FBF7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D639B-3A0C-46B6-9D8B-FDD4C655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831E-24BF-4D7D-BEC3-79A65351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B6DDD-0310-4529-B525-FB86CF83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FF19-52C9-4D24-9D82-E51DCA9A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F34E-32C5-419B-8786-B04751DC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05C1-7A41-4AAA-8897-725B69E4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779E-5C94-4DF3-B61C-558FFAA99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7"/>
          <p:cNvSpPr/>
          <p:nvPr/>
        </p:nvSpPr>
        <p:spPr>
          <a:xfrm>
            <a:off x="-304920" y="304920"/>
            <a:ext cx="1524240" cy="152388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447920" y="2666880"/>
            <a:ext cx="838080" cy="83844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1143000" y="4038480"/>
            <a:ext cx="304920" cy="30492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676520" y="4343400"/>
            <a:ext cx="228600" cy="22860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11"/>
          <p:cNvSpPr/>
          <p:nvPr/>
        </p:nvSpPr>
        <p:spPr>
          <a:xfrm>
            <a:off x="304920" y="548640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12"/>
          <p:cNvSpPr/>
          <p:nvPr/>
        </p:nvSpPr>
        <p:spPr>
          <a:xfrm>
            <a:off x="2743200" y="5867280"/>
            <a:ext cx="762120" cy="7621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3"/>
          <p:cNvSpPr/>
          <p:nvPr/>
        </p:nvSpPr>
        <p:spPr>
          <a:xfrm>
            <a:off x="8077320" y="5105520"/>
            <a:ext cx="1143000" cy="114300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4"/>
          <p:cNvSpPr/>
          <p:nvPr/>
        </p:nvSpPr>
        <p:spPr>
          <a:xfrm>
            <a:off x="7924680" y="4267080"/>
            <a:ext cx="457200" cy="4572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5"/>
          <p:cNvSpPr/>
          <p:nvPr/>
        </p:nvSpPr>
        <p:spPr>
          <a:xfrm>
            <a:off x="8229600" y="685800"/>
            <a:ext cx="457200" cy="4572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6"/>
          <p:cNvSpPr/>
          <p:nvPr/>
        </p:nvSpPr>
        <p:spPr>
          <a:xfrm>
            <a:off x="7238880" y="472428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7"/>
          <p:cNvSpPr/>
          <p:nvPr/>
        </p:nvSpPr>
        <p:spPr>
          <a:xfrm>
            <a:off x="7543800" y="-15228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8"/>
          <p:cNvSpPr/>
          <p:nvPr/>
        </p:nvSpPr>
        <p:spPr>
          <a:xfrm>
            <a:off x="6858000" y="914400"/>
            <a:ext cx="533520" cy="53352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9"/>
          <p:cNvSpPr/>
          <p:nvPr/>
        </p:nvSpPr>
        <p:spPr>
          <a:xfrm>
            <a:off x="6629400" y="457200"/>
            <a:ext cx="304920" cy="30492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20"/>
          <p:cNvSpPr/>
          <p:nvPr/>
        </p:nvSpPr>
        <p:spPr>
          <a:xfrm>
            <a:off x="6477120" y="838080"/>
            <a:ext cx="228600" cy="2286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21"/>
          <p:cNvSpPr/>
          <p:nvPr/>
        </p:nvSpPr>
        <p:spPr>
          <a:xfrm>
            <a:off x="7010280" y="2971800"/>
            <a:ext cx="381240" cy="3808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2"/>
          <p:cNvSpPr/>
          <p:nvPr/>
        </p:nvSpPr>
        <p:spPr>
          <a:xfrm>
            <a:off x="2666880" y="152280"/>
            <a:ext cx="381240" cy="38124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7"/>
          <p:cNvSpPr/>
          <p:nvPr/>
        </p:nvSpPr>
        <p:spPr>
          <a:xfrm>
            <a:off x="3276720" y="4724280"/>
            <a:ext cx="26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larendon Light"/>
              </a:rPr>
              <a:t>Be the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9" descr="HON_CMYK_Central"/>
          <p:cNvPicPr/>
          <p:nvPr/>
        </p:nvPicPr>
        <p:blipFill>
          <a:blip r:embed="rId2"/>
          <a:srcRect l="40911" t="32353" r="38638" b="32353"/>
          <a:stretch/>
        </p:blipFill>
        <p:spPr>
          <a:xfrm>
            <a:off x="3486240" y="1752480"/>
            <a:ext cx="2209680" cy="2946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14"/>
          <p:cNvSpPr/>
          <p:nvPr/>
        </p:nvSpPr>
        <p:spPr>
          <a:xfrm>
            <a:off x="3352680" y="5029200"/>
            <a:ext cx="2210040" cy="22096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5799504-2643x1852"/>
          <p:cNvPicPr/>
          <p:nvPr/>
        </p:nvPicPr>
        <p:blipFill>
          <a:blip r:embed="rId2"/>
          <a:stretch/>
        </p:blipFill>
        <p:spPr>
          <a:xfrm>
            <a:off x="4419720" y="1981080"/>
            <a:ext cx="4419360" cy="4416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HON_CMYK_Central"/>
          <p:cNvPicPr/>
          <p:nvPr/>
        </p:nvPicPr>
        <p:blipFill>
          <a:blip r:embed="rId3"/>
          <a:srcRect l="40152" t="31375" r="38638" b="32353"/>
          <a:stretch/>
        </p:blipFill>
        <p:spPr>
          <a:xfrm>
            <a:off x="1066680" y="5029200"/>
            <a:ext cx="990720" cy="1257480"/>
          </a:xfrm>
          <a:prstGeom prst="rect">
            <a:avLst/>
          </a:prstGeom>
          <a:ln w="0">
            <a:noFill/>
          </a:ln>
        </p:spPr>
      </p:pic>
      <p:sp>
        <p:nvSpPr>
          <p:cNvPr id="100" name="Oval 15"/>
          <p:cNvSpPr/>
          <p:nvPr/>
        </p:nvSpPr>
        <p:spPr>
          <a:xfrm>
            <a:off x="8610480" y="5486400"/>
            <a:ext cx="304920" cy="3049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6"/>
          <p:cNvSpPr/>
          <p:nvPr/>
        </p:nvSpPr>
        <p:spPr>
          <a:xfrm>
            <a:off x="228600" y="228600"/>
            <a:ext cx="304920" cy="3049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7"/>
          <p:cNvSpPr/>
          <p:nvPr/>
        </p:nvSpPr>
        <p:spPr>
          <a:xfrm>
            <a:off x="8153280" y="5943600"/>
            <a:ext cx="533520" cy="53352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8"/>
          <p:cNvSpPr/>
          <p:nvPr/>
        </p:nvSpPr>
        <p:spPr>
          <a:xfrm>
            <a:off x="8839080" y="5943600"/>
            <a:ext cx="152640" cy="15228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9"/>
          <p:cNvSpPr/>
          <p:nvPr/>
        </p:nvSpPr>
        <p:spPr>
          <a:xfrm>
            <a:off x="-152280" y="3352680"/>
            <a:ext cx="304560" cy="30492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0"/>
          <p:cNvSpPr/>
          <p:nvPr/>
        </p:nvSpPr>
        <p:spPr>
          <a:xfrm>
            <a:off x="8381880" y="457200"/>
            <a:ext cx="533520" cy="533520"/>
          </a:xfrm>
          <a:prstGeom prst="ellipse">
            <a:avLst/>
          </a:prstGeom>
          <a:solidFill>
            <a:srgbClr val="66b5d9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1"/>
          <p:cNvSpPr/>
          <p:nvPr/>
        </p:nvSpPr>
        <p:spPr>
          <a:xfrm>
            <a:off x="8153280" y="2209680"/>
            <a:ext cx="152640" cy="15264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036F-D134-4D0D-B036-6247EC7AB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2"/>
          <p:cNvSpPr/>
          <p:nvPr/>
        </p:nvSpPr>
        <p:spPr>
          <a:xfrm>
            <a:off x="3352680" y="5029200"/>
            <a:ext cx="2210040" cy="22096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5" descr="11314373-1594x2400"/>
          <p:cNvPicPr/>
          <p:nvPr/>
        </p:nvPicPr>
        <p:blipFill>
          <a:blip r:embed="rId2"/>
          <a:stretch/>
        </p:blipFill>
        <p:spPr>
          <a:xfrm>
            <a:off x="4038480" y="1752480"/>
            <a:ext cx="4660920" cy="4657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HON_CMYK_Central"/>
          <p:cNvPicPr/>
          <p:nvPr/>
        </p:nvPicPr>
        <p:blipFill>
          <a:blip r:embed="rId3"/>
          <a:srcRect l="40152" t="31375" r="38638" b="32353"/>
          <a:stretch/>
        </p:blipFill>
        <p:spPr>
          <a:xfrm>
            <a:off x="1066680" y="5029200"/>
            <a:ext cx="990720" cy="1257480"/>
          </a:xfrm>
          <a:prstGeom prst="rect">
            <a:avLst/>
          </a:prstGeom>
          <a:ln w="0">
            <a:noFill/>
          </a:ln>
        </p:spPr>
      </p:pic>
      <p:sp>
        <p:nvSpPr>
          <p:cNvPr id="151" name="Oval 9"/>
          <p:cNvSpPr/>
          <p:nvPr/>
        </p:nvSpPr>
        <p:spPr>
          <a:xfrm>
            <a:off x="8610480" y="5486400"/>
            <a:ext cx="304920" cy="3049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228600" y="228600"/>
            <a:ext cx="304920" cy="3049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8153280" y="5943600"/>
            <a:ext cx="533520" cy="53352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8839080" y="5943600"/>
            <a:ext cx="152640" cy="15228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-152280" y="3352680"/>
            <a:ext cx="304560" cy="30492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8381880" y="457200"/>
            <a:ext cx="533520" cy="533520"/>
          </a:xfrm>
          <a:prstGeom prst="ellipse">
            <a:avLst/>
          </a:prstGeom>
          <a:solidFill>
            <a:srgbClr val="66b5d9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5"/>
          <p:cNvSpPr/>
          <p:nvPr/>
        </p:nvSpPr>
        <p:spPr>
          <a:xfrm>
            <a:off x="8153280" y="2209680"/>
            <a:ext cx="152640" cy="15264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F000-0EC2-46D7-B734-0573B402E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Oval 9"/>
          <p:cNvSpPr/>
          <p:nvPr/>
        </p:nvSpPr>
        <p:spPr>
          <a:xfrm>
            <a:off x="-533520" y="380880"/>
            <a:ext cx="2187720" cy="2187720"/>
          </a:xfrm>
          <a:prstGeom prst="ellipse">
            <a:avLst/>
          </a:prstGeom>
          <a:solidFill>
            <a:srgbClr val="d2db61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2" descr="HON_CMYK_Central"/>
          <p:cNvPicPr/>
          <p:nvPr/>
        </p:nvPicPr>
        <p:blipFill>
          <a:blip r:embed="rId2"/>
          <a:srcRect l="40152" t="31375" r="38638" b="32353"/>
          <a:stretch/>
        </p:blipFill>
        <p:spPr>
          <a:xfrm>
            <a:off x="7391520" y="5600880"/>
            <a:ext cx="990360" cy="1257120"/>
          </a:xfrm>
          <a:prstGeom prst="rect">
            <a:avLst/>
          </a:prstGeom>
          <a:ln w="0">
            <a:noFill/>
          </a:ln>
        </p:spPr>
      </p:pic>
      <p:sp>
        <p:nvSpPr>
          <p:cNvPr id="202" name="Oval 13"/>
          <p:cNvSpPr/>
          <p:nvPr/>
        </p:nvSpPr>
        <p:spPr>
          <a:xfrm>
            <a:off x="8381880" y="4114800"/>
            <a:ext cx="1067040" cy="1066680"/>
          </a:xfrm>
          <a:prstGeom prst="ellipse">
            <a:avLst/>
          </a:prstGeom>
          <a:solidFill>
            <a:srgbClr val="96908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B2CF-578D-4427-9728-4889190E1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2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4" descr="HON_CMYK_Central"/>
          <p:cNvPicPr/>
          <p:nvPr/>
        </p:nvPicPr>
        <p:blipFill>
          <a:blip r:embed="rId2"/>
          <a:srcRect l="40152" t="31375" r="38638" b="32353"/>
          <a:stretch/>
        </p:blipFill>
        <p:spPr>
          <a:xfrm>
            <a:off x="7391520" y="5600880"/>
            <a:ext cx="990360" cy="12571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Oval 4"/>
          <p:cNvSpPr/>
          <p:nvPr/>
        </p:nvSpPr>
        <p:spPr>
          <a:xfrm>
            <a:off x="609480" y="2286000"/>
            <a:ext cx="2286000" cy="228600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"/>
          <p:cNvSpPr/>
          <p:nvPr/>
        </p:nvSpPr>
        <p:spPr>
          <a:xfrm>
            <a:off x="3429000" y="2286000"/>
            <a:ext cx="2286000" cy="22860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6"/>
          <p:cNvSpPr/>
          <p:nvPr/>
        </p:nvSpPr>
        <p:spPr>
          <a:xfrm>
            <a:off x="6324480" y="2286000"/>
            <a:ext cx="2286000" cy="22860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Oval 4"/>
          <p:cNvSpPr/>
          <p:nvPr/>
        </p:nvSpPr>
        <p:spPr>
          <a:xfrm>
            <a:off x="2362320" y="1143000"/>
            <a:ext cx="4724280" cy="472428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6"/>
          <p:cNvSpPr/>
          <p:nvPr/>
        </p:nvSpPr>
        <p:spPr>
          <a:xfrm>
            <a:off x="609480" y="609480"/>
            <a:ext cx="762120" cy="7621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7"/>
          <p:cNvSpPr/>
          <p:nvPr/>
        </p:nvSpPr>
        <p:spPr>
          <a:xfrm>
            <a:off x="152280" y="3657600"/>
            <a:ext cx="381240" cy="38088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8"/>
          <p:cNvSpPr/>
          <p:nvPr/>
        </p:nvSpPr>
        <p:spPr>
          <a:xfrm>
            <a:off x="8458200" y="5105520"/>
            <a:ext cx="422280" cy="42228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9"/>
          <p:cNvSpPr/>
          <p:nvPr/>
        </p:nvSpPr>
        <p:spPr>
          <a:xfrm>
            <a:off x="8534520" y="4572000"/>
            <a:ext cx="225360" cy="22536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1219320" y="4343400"/>
            <a:ext cx="685800" cy="68580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1"/>
          <p:cNvSpPr/>
          <p:nvPr/>
        </p:nvSpPr>
        <p:spPr>
          <a:xfrm>
            <a:off x="7467480" y="380880"/>
            <a:ext cx="838440" cy="83844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2"/>
          <p:cNvSpPr/>
          <p:nvPr/>
        </p:nvSpPr>
        <p:spPr>
          <a:xfrm>
            <a:off x="1770120" y="1008000"/>
            <a:ext cx="193680" cy="1936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3"/>
          <p:cNvSpPr/>
          <p:nvPr/>
        </p:nvSpPr>
        <p:spPr>
          <a:xfrm>
            <a:off x="2424240" y="6157800"/>
            <a:ext cx="298440" cy="29844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4"/>
          <p:cNvSpPr/>
          <p:nvPr/>
        </p:nvSpPr>
        <p:spPr>
          <a:xfrm>
            <a:off x="6934320" y="914400"/>
            <a:ext cx="298440" cy="29844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5"/>
          <p:cNvSpPr/>
          <p:nvPr/>
        </p:nvSpPr>
        <p:spPr>
          <a:xfrm>
            <a:off x="7270920" y="5823000"/>
            <a:ext cx="469800" cy="46980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6"/>
          <p:cNvSpPr/>
          <p:nvPr/>
        </p:nvSpPr>
        <p:spPr>
          <a:xfrm>
            <a:off x="609480" y="5715000"/>
            <a:ext cx="685800" cy="68580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7"/>
          <p:cNvSpPr/>
          <p:nvPr/>
        </p:nvSpPr>
        <p:spPr>
          <a:xfrm>
            <a:off x="8305920" y="6477120"/>
            <a:ext cx="193680" cy="1936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8"/>
          <p:cNvSpPr/>
          <p:nvPr/>
        </p:nvSpPr>
        <p:spPr>
          <a:xfrm>
            <a:off x="2438280" y="228600"/>
            <a:ext cx="374760" cy="37476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7"/>
          <p:cNvSpPr/>
          <p:nvPr/>
        </p:nvSpPr>
        <p:spPr>
          <a:xfrm>
            <a:off x="-304920" y="304920"/>
            <a:ext cx="1524240" cy="152388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8"/>
          <p:cNvSpPr/>
          <p:nvPr/>
        </p:nvSpPr>
        <p:spPr>
          <a:xfrm>
            <a:off x="1447920" y="2666880"/>
            <a:ext cx="838080" cy="83844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9"/>
          <p:cNvSpPr/>
          <p:nvPr/>
        </p:nvSpPr>
        <p:spPr>
          <a:xfrm>
            <a:off x="1143000" y="4038480"/>
            <a:ext cx="304920" cy="30492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0"/>
          <p:cNvSpPr/>
          <p:nvPr/>
        </p:nvSpPr>
        <p:spPr>
          <a:xfrm>
            <a:off x="1676520" y="4343400"/>
            <a:ext cx="228600" cy="22860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1"/>
          <p:cNvSpPr/>
          <p:nvPr/>
        </p:nvSpPr>
        <p:spPr>
          <a:xfrm>
            <a:off x="304920" y="548640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2"/>
          <p:cNvSpPr/>
          <p:nvPr/>
        </p:nvSpPr>
        <p:spPr>
          <a:xfrm>
            <a:off x="2743200" y="5867280"/>
            <a:ext cx="762120" cy="7621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3"/>
          <p:cNvSpPr/>
          <p:nvPr/>
        </p:nvSpPr>
        <p:spPr>
          <a:xfrm>
            <a:off x="8077320" y="5105520"/>
            <a:ext cx="1143000" cy="114300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4"/>
          <p:cNvSpPr/>
          <p:nvPr/>
        </p:nvSpPr>
        <p:spPr>
          <a:xfrm>
            <a:off x="7924680" y="4267080"/>
            <a:ext cx="457200" cy="4572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5"/>
          <p:cNvSpPr/>
          <p:nvPr/>
        </p:nvSpPr>
        <p:spPr>
          <a:xfrm>
            <a:off x="8229600" y="685800"/>
            <a:ext cx="457200" cy="4572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16"/>
          <p:cNvSpPr/>
          <p:nvPr/>
        </p:nvSpPr>
        <p:spPr>
          <a:xfrm>
            <a:off x="7238880" y="472428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17"/>
          <p:cNvSpPr/>
          <p:nvPr/>
        </p:nvSpPr>
        <p:spPr>
          <a:xfrm>
            <a:off x="7543800" y="-15228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8"/>
          <p:cNvSpPr/>
          <p:nvPr/>
        </p:nvSpPr>
        <p:spPr>
          <a:xfrm>
            <a:off x="6858000" y="914400"/>
            <a:ext cx="533520" cy="53352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9"/>
          <p:cNvSpPr/>
          <p:nvPr/>
        </p:nvSpPr>
        <p:spPr>
          <a:xfrm>
            <a:off x="6629400" y="457200"/>
            <a:ext cx="304920" cy="30492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20"/>
          <p:cNvSpPr/>
          <p:nvPr/>
        </p:nvSpPr>
        <p:spPr>
          <a:xfrm>
            <a:off x="6477120" y="838080"/>
            <a:ext cx="228600" cy="2286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21"/>
          <p:cNvSpPr/>
          <p:nvPr/>
        </p:nvSpPr>
        <p:spPr>
          <a:xfrm>
            <a:off x="7010280" y="2971800"/>
            <a:ext cx="381240" cy="3808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22"/>
          <p:cNvSpPr/>
          <p:nvPr/>
        </p:nvSpPr>
        <p:spPr>
          <a:xfrm>
            <a:off x="2666880" y="152280"/>
            <a:ext cx="381240" cy="38124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9" descr="HON_CMYK_Central"/>
          <p:cNvPicPr/>
          <p:nvPr/>
        </p:nvPicPr>
        <p:blipFill>
          <a:blip r:embed="rId1"/>
          <a:srcRect l="40911" t="32353" r="38638" b="32353"/>
          <a:stretch/>
        </p:blipFill>
        <p:spPr>
          <a:xfrm>
            <a:off x="3486240" y="1752480"/>
            <a:ext cx="2209680" cy="294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What services do they ne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04920" y="11430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Of these over </a:t>
            </a: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20,000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calls </a:t>
            </a: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14,988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are represented in these top 30 referred ser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TextBox 3" descr=""/>
          <p:cNvPicPr/>
          <p:nvPr/>
        </p:nvPicPr>
        <p:blipFill>
          <a:blip r:embed="rId1"/>
          <a:stretch/>
        </p:blipFill>
        <p:spPr>
          <a:xfrm>
            <a:off x="0" y="1901880"/>
            <a:ext cx="9144000" cy="748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How are these resources manag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837720" y="19051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Two Resource Analysts maintain the </a:t>
            </a:r>
            <a:r>
              <a:rPr b="0" lang="en-US" sz="2200" spc="-1" strike="noStrike">
                <a:solidFill>
                  <a:srgbClr val="a6b936"/>
                </a:solidFill>
                <a:latin typeface="Calibri"/>
                <a:ea typeface="Calibri"/>
              </a:rPr>
              <a:t>HandsOn</a:t>
            </a: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 datab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Over 1000 agencies offering over 5000 servi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Standards require that each agency is formally updated once a ye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We work to develop relationships with each agency so that as programs change, we’re notified and can update listings on an ongoing bas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New agencies are added on a daily basis. We learn about new organizations from newspapers, newsletters and community fairs and ev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2-1-1 On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83772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’s database- Online. </a:t>
            </a:r>
            <a:r>
              <a:rPr b="0" lang="en-US" sz="2400" spc="-1" strike="noStrike">
                <a:solidFill>
                  <a:srgbClr val="66b5d9"/>
                </a:solidFill>
                <a:latin typeface="Calibri"/>
                <a:ea typeface="Calibri"/>
              </a:rPr>
              <a:t>2-1-1 Online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provides immediate access to our entire database of human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Available on a subscription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an be accessed through any computer with an internet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Allows subscribers to obtain the most accurate, up-to-date and reliable information on community programs and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Allows us to provide information on seasonal programs and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" descr="twitter_newbird_boxed_blueonwhite.png"/>
          <p:cNvPicPr/>
          <p:nvPr/>
        </p:nvPicPr>
        <p:blipFill>
          <a:blip r:embed="rId1"/>
          <a:stretch/>
        </p:blipFill>
        <p:spPr>
          <a:xfrm>
            <a:off x="1219320" y="25909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Get Connec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52280" y="1447560"/>
            <a:ext cx="8839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b5d9"/>
                </a:solidFill>
                <a:latin typeface="Arial"/>
              </a:rPr>
              <a:t>www.facebook.com/handsoncentralo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b5d9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66b5d9"/>
                </a:solidFill>
                <a:latin typeface="Arial"/>
              </a:rPr>
              <a:t>www.twitter.com/</a:t>
            </a:r>
            <a:r>
              <a:rPr b="0" lang="en-US" sz="2400" spc="-1" strike="noStrike">
                <a:solidFill>
                  <a:srgbClr val="66b5d9"/>
                </a:solidFill>
                <a:latin typeface="Gotham Book"/>
              </a:rPr>
              <a:t>handsoncntrlo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b5d9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66b5d9"/>
                </a:solidFill>
                <a:latin typeface="Arial"/>
              </a:rPr>
              <a:t>www.handsoncentralohio.blogspot.co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tham 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1728669589.png"/>
          <p:cNvPicPr/>
          <p:nvPr/>
        </p:nvPicPr>
        <p:blipFill>
          <a:blip r:embed="rId2"/>
          <a:stretch/>
        </p:blipFill>
        <p:spPr>
          <a:xfrm>
            <a:off x="1371600" y="1752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5" descr="blogspot icon.jpg"/>
          <p:cNvPicPr/>
          <p:nvPr/>
        </p:nvPicPr>
        <p:blipFill>
          <a:blip r:embed="rId3"/>
          <a:stretch/>
        </p:blipFill>
        <p:spPr>
          <a:xfrm>
            <a:off x="1371600" y="3581280"/>
            <a:ext cx="68904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Who is HandsOn Central Oh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Over 35 years ago, two collaborating organizations, Volunteer Action Center (VAC) and Caring Answering Listening Linking (CALL) merged to form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CALLVAC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5b554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In 1995, CALLVAC took the nam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FIRSTLINK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, signifying their presence as the go to organization for information and referral and volunteer connection.</a:t>
            </a:r>
            <a:br>
              <a:rPr sz="2400"/>
            </a:br>
            <a:r>
              <a:rPr b="0" lang="en-US" sz="2400" spc="-1" strike="noStrike">
                <a:solidFill>
                  <a:srgbClr val="5b554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In April of 2010, FIRSTLINK joined the national </a:t>
            </a: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Network as the </a:t>
            </a: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Central Ohio 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affiliate, tapping into national resources at a local level of eng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What does HandsOn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 Central Ohio </a:t>
            </a:r>
            <a:r>
              <a:rPr b="0" i="1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inspires, equips and mobilizes people to create meaningful change in their lives and in their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onnect volunteers to civic engagement opportunities, and coordinate service events for local organ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Link Franklin County residents in need to critical community resources</a:t>
            </a:r>
            <a:r>
              <a:rPr b="1" i="1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5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larendon Light"/>
              </a:rPr>
              <a:t> </a:t>
            </a: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How do we fulfill our mis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761760" y="137160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 Central Ohio 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engages volunteers and connects those in need through our programs and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RSVP and Foster Grand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Dental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Non-Profit Capacity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ommunity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Disaster Prepare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2-1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2-1-1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HandsOn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6b936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RSVP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and </a:t>
            </a: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Foster Grandparents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- Volunteer service projects and mentoring opportunities for adults 55 years and o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6b936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Dental OPTIONS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- Partnership between Ohio Dental Association and the Ohio Department of Health, connects people to dentists who have agreed to provide free or reduced cost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6b936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Non-Profit Training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- Non-Profit Leadership Certificate program teaches board development, volunteer and nonprofit management, grant writing and strategic pl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6b936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Disaster Preparedness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- Trains individuals to become a member of Franklin County Citizen Corps and how to respond and effectively volunteer in the event of a dis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Community Eng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533520" y="18284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 Central Ohio 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onnects interested volunteers and organizations with meaningful service opportuniti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Volunteer database of over 2100 ongoing opportunities. These consist of both one-time and continuing engag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Project Calendar allows volunteers to learn about and register for individual or continuing opportunities, and allows organizations to go online an create their own lis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National Days of Service, Make A Difference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orporate manag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2-1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3772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is Franklin County’s 2-1-1 comprehensive information and referral line, connecting our neighbors to various services and basic human nee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Information and Referral (I&amp;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Foo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Earned Income Tax Credit (EI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Homeowner Hel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Why are people call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Content Placeholder 5" descr=""/>
          <p:cNvPicPr/>
          <p:nvPr/>
        </p:nvPicPr>
        <p:blipFill>
          <a:blip r:embed="rId1"/>
          <a:stretch/>
        </p:blipFill>
        <p:spPr>
          <a:xfrm>
            <a:off x="330120" y="1320840"/>
            <a:ext cx="8483760" cy="4673520"/>
          </a:xfrm>
          <a:prstGeom prst="rect">
            <a:avLst/>
          </a:prstGeom>
          <a:ln w="0">
            <a:noFill/>
          </a:ln>
        </p:spPr>
      </p:pic>
      <p:sp>
        <p:nvSpPr>
          <p:cNvPr id="416" name="TextBox 6"/>
          <p:cNvSpPr/>
          <p:nvPr/>
        </p:nvSpPr>
        <p:spPr>
          <a:xfrm>
            <a:off x="2057400" y="54864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20, 575 calls in this 6 month tim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Information and Refer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37720" y="17521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all Specialists access a comprehensive database to assist callers 24 hours a day, 7 days a we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Basic Human Needs- Housing, Utilities, Seasonal Programs, Materi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Physical and mental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Support for older adults and persons with dis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Support for children, youth and famil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5:32:24Z</dcterms:created>
  <dc:creator>Marjie Bland</dc:creator>
  <dc:description/>
  <dc:language>en-US</dc:language>
  <cp:lastModifiedBy>Kimberly White</cp:lastModifiedBy>
  <dcterms:modified xsi:type="dcterms:W3CDTF">2011-04-30T02:09:49Z</dcterms:modified>
  <cp:revision>156</cp:revision>
  <dc:subject/>
  <dc:title>Slide 1</dc:title>
</cp:coreProperties>
</file>