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ftr" idx="14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 type="sldNum" idx="15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25A5-B499-46AA-BB4D-B4C73F754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1115-B675-4805-AEC4-CEE7AD88C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D307-5ABE-4A72-9A0A-6D0796ED0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54B3-15F6-41ED-A9B3-398AEA68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45D5-B93B-48CB-B821-798D1DEA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C363-0846-44F0-B4D2-B4B6E365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1BD0-7D5E-4672-8CE8-64885D59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9CB-4D36-4ADF-BB1B-C9F7E989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6612-51CA-4A59-B4DE-CE50F96F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946E-FDE9-449A-BE54-01ADC0DC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CCAD-06C4-42D5-A604-C31868A1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06FF-2FED-4281-936D-FD8C35D2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4341-980C-45D4-B9C7-1BA3BB4A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39C5-25FF-4F00-A520-6869A2D2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206B-28AE-4D2A-80D8-FA8240B6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2B08-3A75-4BE6-8B41-E5733FAF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BCB5-0E5F-4193-ACB9-A399FFE4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5C29-F3BD-4B51-A6F9-1F28CD06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6D2F-C21A-4EB5-A5A9-24E698C0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2D6B-A9EC-4864-B572-24828141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F42C-930A-45EF-84B7-AACB3BBB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CBBA6-A4C4-4724-8D84-20A26D85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4DB0E-85A8-443C-9568-A76F37FF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A7D6E-D62E-4986-A4C5-FDCA2488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1A4F-28CC-4E7B-94A9-2B2C441B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4EED1-24EB-4C54-88FF-1A961465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D9ECE-BDC1-4919-A24C-749F7071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BFB58-AE93-418E-92D5-7294B6AE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6F63E-EE5E-4554-9763-48A0E9F6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0C2E1-1B94-4632-ACD6-1370F866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D9F5F-6A69-4F13-BEDB-6E412D99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2D423-6B65-45FB-8003-E7BBA3F5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5080C-0EF2-48C5-B543-C9C211EB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DA720-1685-41A2-A898-41686E92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D5DBE-F1C9-465B-9CA7-8733E9C0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49D9-DFE9-49FF-8C89-982D02DF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C1AC0-9843-45DB-8CD2-1A238F95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B9A49-97F1-4519-98AC-DB32EA15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FC882-4F07-44C4-AB45-B7E2A9F6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5DEB2-E158-4784-836A-A86CBE79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0343A-CA24-4061-89A0-F9259E93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AF7AC-4034-4F3A-9BAE-39E81A4B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E4787-ECEC-41EF-B279-ED7876BB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5072A-63FA-4B5A-896C-0C68A8AA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F5843-B57E-4167-8DDD-9A9F746C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24667-BD14-471E-B930-E2BAF3FD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FC6-5CBD-4F5A-9F3A-1998F59E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9258A-DFA2-4A0B-A516-75091238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A47D-78E0-4D48-AB37-158F830D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7C7D-0A5D-49D1-B0A7-140A1ADC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10FD-FA0B-40E6-947D-E1E11BF1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26B9-9629-41B0-991B-71A8C9AF5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7"/>
          <p:cNvSpPr/>
          <p:nvPr/>
        </p:nvSpPr>
        <p:spPr>
          <a:xfrm>
            <a:off x="-304920" y="304920"/>
            <a:ext cx="1524240" cy="152388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447920" y="2666880"/>
            <a:ext cx="838080" cy="83844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1143000" y="4038480"/>
            <a:ext cx="304920" cy="30492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676520" y="4343400"/>
            <a:ext cx="228600" cy="2286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1"/>
          <p:cNvSpPr/>
          <p:nvPr/>
        </p:nvSpPr>
        <p:spPr>
          <a:xfrm>
            <a:off x="304920" y="548640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12"/>
          <p:cNvSpPr/>
          <p:nvPr/>
        </p:nvSpPr>
        <p:spPr>
          <a:xfrm>
            <a:off x="2743200" y="5867280"/>
            <a:ext cx="762120" cy="7621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3"/>
          <p:cNvSpPr/>
          <p:nvPr/>
        </p:nvSpPr>
        <p:spPr>
          <a:xfrm>
            <a:off x="8077320" y="5105520"/>
            <a:ext cx="1143000" cy="11430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4"/>
          <p:cNvSpPr/>
          <p:nvPr/>
        </p:nvSpPr>
        <p:spPr>
          <a:xfrm>
            <a:off x="7924680" y="4267080"/>
            <a:ext cx="457200" cy="4572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5"/>
          <p:cNvSpPr/>
          <p:nvPr/>
        </p:nvSpPr>
        <p:spPr>
          <a:xfrm>
            <a:off x="8229600" y="685800"/>
            <a:ext cx="457200" cy="4572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6"/>
          <p:cNvSpPr/>
          <p:nvPr/>
        </p:nvSpPr>
        <p:spPr>
          <a:xfrm>
            <a:off x="7238880" y="472428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7"/>
          <p:cNvSpPr/>
          <p:nvPr/>
        </p:nvSpPr>
        <p:spPr>
          <a:xfrm>
            <a:off x="7543800" y="-15228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8"/>
          <p:cNvSpPr/>
          <p:nvPr/>
        </p:nvSpPr>
        <p:spPr>
          <a:xfrm>
            <a:off x="6858000" y="914400"/>
            <a:ext cx="533520" cy="53352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9"/>
          <p:cNvSpPr/>
          <p:nvPr/>
        </p:nvSpPr>
        <p:spPr>
          <a:xfrm>
            <a:off x="6629400" y="457200"/>
            <a:ext cx="304920" cy="30492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20"/>
          <p:cNvSpPr/>
          <p:nvPr/>
        </p:nvSpPr>
        <p:spPr>
          <a:xfrm>
            <a:off x="6477120" y="838080"/>
            <a:ext cx="228600" cy="2286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21"/>
          <p:cNvSpPr/>
          <p:nvPr/>
        </p:nvSpPr>
        <p:spPr>
          <a:xfrm>
            <a:off x="7010280" y="2971800"/>
            <a:ext cx="381240" cy="3808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2"/>
          <p:cNvSpPr/>
          <p:nvPr/>
        </p:nvSpPr>
        <p:spPr>
          <a:xfrm>
            <a:off x="2666880" y="152280"/>
            <a:ext cx="381240" cy="38124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7"/>
          <p:cNvSpPr/>
          <p:nvPr/>
        </p:nvSpPr>
        <p:spPr>
          <a:xfrm>
            <a:off x="3276720" y="4724280"/>
            <a:ext cx="26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larendon Light"/>
              </a:rPr>
              <a:t>Be the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9" descr="HON_CMYK_Central"/>
          <p:cNvPicPr/>
          <p:nvPr/>
        </p:nvPicPr>
        <p:blipFill>
          <a:blip r:embed="rId2"/>
          <a:srcRect l="40911" t="32353" r="38638" b="32353"/>
          <a:stretch/>
        </p:blipFill>
        <p:spPr>
          <a:xfrm>
            <a:off x="3486240" y="1752480"/>
            <a:ext cx="2209680" cy="2946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14"/>
          <p:cNvSpPr/>
          <p:nvPr/>
        </p:nvSpPr>
        <p:spPr>
          <a:xfrm>
            <a:off x="3352680" y="5029200"/>
            <a:ext cx="2210040" cy="22096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5799504-2643x1852"/>
          <p:cNvPicPr/>
          <p:nvPr/>
        </p:nvPicPr>
        <p:blipFill>
          <a:blip r:embed="rId2"/>
          <a:stretch/>
        </p:blipFill>
        <p:spPr>
          <a:xfrm>
            <a:off x="4419720" y="1981080"/>
            <a:ext cx="4419360" cy="4416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HON_CMYK_Central"/>
          <p:cNvPicPr/>
          <p:nvPr/>
        </p:nvPicPr>
        <p:blipFill>
          <a:blip r:embed="rId3"/>
          <a:srcRect l="40152" t="31375" r="38638" b="32353"/>
          <a:stretch/>
        </p:blipFill>
        <p:spPr>
          <a:xfrm>
            <a:off x="1066680" y="5029200"/>
            <a:ext cx="990720" cy="1257480"/>
          </a:xfrm>
          <a:prstGeom prst="rect">
            <a:avLst/>
          </a:prstGeom>
          <a:ln w="0">
            <a:noFill/>
          </a:ln>
        </p:spPr>
      </p:pic>
      <p:sp>
        <p:nvSpPr>
          <p:cNvPr id="100" name="Oval 15"/>
          <p:cNvSpPr/>
          <p:nvPr/>
        </p:nvSpPr>
        <p:spPr>
          <a:xfrm>
            <a:off x="8610480" y="5486400"/>
            <a:ext cx="304920" cy="3049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6"/>
          <p:cNvSpPr/>
          <p:nvPr/>
        </p:nvSpPr>
        <p:spPr>
          <a:xfrm>
            <a:off x="228600" y="228600"/>
            <a:ext cx="304920" cy="3049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7"/>
          <p:cNvSpPr/>
          <p:nvPr/>
        </p:nvSpPr>
        <p:spPr>
          <a:xfrm>
            <a:off x="8153280" y="5943600"/>
            <a:ext cx="533520" cy="53352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8"/>
          <p:cNvSpPr/>
          <p:nvPr/>
        </p:nvSpPr>
        <p:spPr>
          <a:xfrm>
            <a:off x="8839080" y="5943600"/>
            <a:ext cx="152640" cy="15228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9"/>
          <p:cNvSpPr/>
          <p:nvPr/>
        </p:nvSpPr>
        <p:spPr>
          <a:xfrm>
            <a:off x="-152280" y="3352680"/>
            <a:ext cx="304560" cy="30492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0"/>
          <p:cNvSpPr/>
          <p:nvPr/>
        </p:nvSpPr>
        <p:spPr>
          <a:xfrm>
            <a:off x="8381880" y="457200"/>
            <a:ext cx="533520" cy="533520"/>
          </a:xfrm>
          <a:prstGeom prst="ellipse">
            <a:avLst/>
          </a:prstGeom>
          <a:solidFill>
            <a:srgbClr val="66b5d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8153280" y="2209680"/>
            <a:ext cx="152640" cy="15264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9515-78E7-43ED-B5C2-C86787549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3352680" y="5029200"/>
            <a:ext cx="2210040" cy="22096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5" descr="11314373-1594x2400"/>
          <p:cNvPicPr/>
          <p:nvPr/>
        </p:nvPicPr>
        <p:blipFill>
          <a:blip r:embed="rId2"/>
          <a:stretch/>
        </p:blipFill>
        <p:spPr>
          <a:xfrm>
            <a:off x="4038480" y="1752480"/>
            <a:ext cx="4660920" cy="4657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HON_CMYK_Central"/>
          <p:cNvPicPr/>
          <p:nvPr/>
        </p:nvPicPr>
        <p:blipFill>
          <a:blip r:embed="rId3"/>
          <a:srcRect l="40152" t="31375" r="38638" b="32353"/>
          <a:stretch/>
        </p:blipFill>
        <p:spPr>
          <a:xfrm>
            <a:off x="1066680" y="5029200"/>
            <a:ext cx="990720" cy="1257480"/>
          </a:xfrm>
          <a:prstGeom prst="rect">
            <a:avLst/>
          </a:prstGeom>
          <a:ln w="0">
            <a:noFill/>
          </a:ln>
        </p:spPr>
      </p:pic>
      <p:sp>
        <p:nvSpPr>
          <p:cNvPr id="151" name="Oval 9"/>
          <p:cNvSpPr/>
          <p:nvPr/>
        </p:nvSpPr>
        <p:spPr>
          <a:xfrm>
            <a:off x="8610480" y="5486400"/>
            <a:ext cx="304920" cy="3049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228600" y="228600"/>
            <a:ext cx="304920" cy="3049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8153280" y="5943600"/>
            <a:ext cx="533520" cy="53352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8839080" y="5943600"/>
            <a:ext cx="152640" cy="15228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-152280" y="3352680"/>
            <a:ext cx="304560" cy="30492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8381880" y="457200"/>
            <a:ext cx="533520" cy="533520"/>
          </a:xfrm>
          <a:prstGeom prst="ellipse">
            <a:avLst/>
          </a:prstGeom>
          <a:solidFill>
            <a:srgbClr val="66b5d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5"/>
          <p:cNvSpPr/>
          <p:nvPr/>
        </p:nvSpPr>
        <p:spPr>
          <a:xfrm>
            <a:off x="8153280" y="2209680"/>
            <a:ext cx="152640" cy="15264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9F8E-51F5-4C2E-B99C-B890DFCA0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Oval 9"/>
          <p:cNvSpPr/>
          <p:nvPr/>
        </p:nvSpPr>
        <p:spPr>
          <a:xfrm>
            <a:off x="-533520" y="380880"/>
            <a:ext cx="2187720" cy="2187720"/>
          </a:xfrm>
          <a:prstGeom prst="ellipse">
            <a:avLst/>
          </a:prstGeom>
          <a:solidFill>
            <a:srgbClr val="d2db61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2" descr="HON_CMYK_Central"/>
          <p:cNvPicPr/>
          <p:nvPr/>
        </p:nvPicPr>
        <p:blipFill>
          <a:blip r:embed="rId2"/>
          <a:srcRect l="40152" t="31375" r="38638" b="32353"/>
          <a:stretch/>
        </p:blipFill>
        <p:spPr>
          <a:xfrm>
            <a:off x="7391520" y="5600880"/>
            <a:ext cx="990360" cy="1257120"/>
          </a:xfrm>
          <a:prstGeom prst="rect">
            <a:avLst/>
          </a:prstGeom>
          <a:ln w="0">
            <a:noFill/>
          </a:ln>
        </p:spPr>
      </p:pic>
      <p:sp>
        <p:nvSpPr>
          <p:cNvPr id="202" name="Oval 13"/>
          <p:cNvSpPr/>
          <p:nvPr/>
        </p:nvSpPr>
        <p:spPr>
          <a:xfrm>
            <a:off x="8381880" y="4114800"/>
            <a:ext cx="1067040" cy="1066680"/>
          </a:xfrm>
          <a:prstGeom prst="ellipse">
            <a:avLst/>
          </a:prstGeom>
          <a:solidFill>
            <a:srgbClr val="96908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0307-E149-4161-896C-618FC2F4F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2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4" descr="HON_CMYK_Central"/>
          <p:cNvPicPr/>
          <p:nvPr/>
        </p:nvPicPr>
        <p:blipFill>
          <a:blip r:embed="rId2"/>
          <a:srcRect l="40152" t="31375" r="38638" b="32353"/>
          <a:stretch/>
        </p:blipFill>
        <p:spPr>
          <a:xfrm>
            <a:off x="7391520" y="5600880"/>
            <a:ext cx="990360" cy="12571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Oval 4"/>
          <p:cNvSpPr/>
          <p:nvPr/>
        </p:nvSpPr>
        <p:spPr>
          <a:xfrm>
            <a:off x="609480" y="2286000"/>
            <a:ext cx="2286000" cy="228600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"/>
          <p:cNvSpPr/>
          <p:nvPr/>
        </p:nvSpPr>
        <p:spPr>
          <a:xfrm>
            <a:off x="3429000" y="2286000"/>
            <a:ext cx="2286000" cy="22860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6324480" y="2286000"/>
            <a:ext cx="2286000" cy="22860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Oval 4"/>
          <p:cNvSpPr/>
          <p:nvPr/>
        </p:nvSpPr>
        <p:spPr>
          <a:xfrm>
            <a:off x="2362320" y="1143000"/>
            <a:ext cx="4724280" cy="472428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6"/>
          <p:cNvSpPr/>
          <p:nvPr/>
        </p:nvSpPr>
        <p:spPr>
          <a:xfrm>
            <a:off x="609480" y="609480"/>
            <a:ext cx="762120" cy="7621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7"/>
          <p:cNvSpPr/>
          <p:nvPr/>
        </p:nvSpPr>
        <p:spPr>
          <a:xfrm>
            <a:off x="152280" y="3657600"/>
            <a:ext cx="381240" cy="38088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8"/>
          <p:cNvSpPr/>
          <p:nvPr/>
        </p:nvSpPr>
        <p:spPr>
          <a:xfrm>
            <a:off x="8458200" y="5105520"/>
            <a:ext cx="422280" cy="42228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9"/>
          <p:cNvSpPr/>
          <p:nvPr/>
        </p:nvSpPr>
        <p:spPr>
          <a:xfrm>
            <a:off x="8534520" y="4572000"/>
            <a:ext cx="225360" cy="22536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1219320" y="4343400"/>
            <a:ext cx="685800" cy="68580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1"/>
          <p:cNvSpPr/>
          <p:nvPr/>
        </p:nvSpPr>
        <p:spPr>
          <a:xfrm>
            <a:off x="7467480" y="380880"/>
            <a:ext cx="838440" cy="83844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2"/>
          <p:cNvSpPr/>
          <p:nvPr/>
        </p:nvSpPr>
        <p:spPr>
          <a:xfrm>
            <a:off x="1770120" y="1008000"/>
            <a:ext cx="193680" cy="1936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3"/>
          <p:cNvSpPr/>
          <p:nvPr/>
        </p:nvSpPr>
        <p:spPr>
          <a:xfrm>
            <a:off x="2424240" y="6157800"/>
            <a:ext cx="298440" cy="29844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4"/>
          <p:cNvSpPr/>
          <p:nvPr/>
        </p:nvSpPr>
        <p:spPr>
          <a:xfrm>
            <a:off x="6934320" y="914400"/>
            <a:ext cx="298440" cy="29844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5"/>
          <p:cNvSpPr/>
          <p:nvPr/>
        </p:nvSpPr>
        <p:spPr>
          <a:xfrm>
            <a:off x="7270920" y="5823000"/>
            <a:ext cx="469800" cy="46980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6"/>
          <p:cNvSpPr/>
          <p:nvPr/>
        </p:nvSpPr>
        <p:spPr>
          <a:xfrm>
            <a:off x="609480" y="5715000"/>
            <a:ext cx="685800" cy="6858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7"/>
          <p:cNvSpPr/>
          <p:nvPr/>
        </p:nvSpPr>
        <p:spPr>
          <a:xfrm>
            <a:off x="8305920" y="6477120"/>
            <a:ext cx="193680" cy="1936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8"/>
          <p:cNvSpPr/>
          <p:nvPr/>
        </p:nvSpPr>
        <p:spPr>
          <a:xfrm>
            <a:off x="2438280" y="228600"/>
            <a:ext cx="374760" cy="37476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7"/>
          <p:cNvSpPr/>
          <p:nvPr/>
        </p:nvSpPr>
        <p:spPr>
          <a:xfrm>
            <a:off x="-304920" y="304920"/>
            <a:ext cx="1524240" cy="152388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8"/>
          <p:cNvSpPr/>
          <p:nvPr/>
        </p:nvSpPr>
        <p:spPr>
          <a:xfrm>
            <a:off x="1447920" y="2666880"/>
            <a:ext cx="838080" cy="83844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9"/>
          <p:cNvSpPr/>
          <p:nvPr/>
        </p:nvSpPr>
        <p:spPr>
          <a:xfrm>
            <a:off x="1143000" y="4038480"/>
            <a:ext cx="304920" cy="30492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0"/>
          <p:cNvSpPr/>
          <p:nvPr/>
        </p:nvSpPr>
        <p:spPr>
          <a:xfrm>
            <a:off x="1676520" y="4343400"/>
            <a:ext cx="228600" cy="2286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1"/>
          <p:cNvSpPr/>
          <p:nvPr/>
        </p:nvSpPr>
        <p:spPr>
          <a:xfrm>
            <a:off x="304920" y="548640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2"/>
          <p:cNvSpPr/>
          <p:nvPr/>
        </p:nvSpPr>
        <p:spPr>
          <a:xfrm>
            <a:off x="2743200" y="5867280"/>
            <a:ext cx="762120" cy="7621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3"/>
          <p:cNvSpPr/>
          <p:nvPr/>
        </p:nvSpPr>
        <p:spPr>
          <a:xfrm>
            <a:off x="8077320" y="5105520"/>
            <a:ext cx="1143000" cy="11430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4"/>
          <p:cNvSpPr/>
          <p:nvPr/>
        </p:nvSpPr>
        <p:spPr>
          <a:xfrm>
            <a:off x="7924680" y="4267080"/>
            <a:ext cx="457200" cy="4572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5"/>
          <p:cNvSpPr/>
          <p:nvPr/>
        </p:nvSpPr>
        <p:spPr>
          <a:xfrm>
            <a:off x="8229600" y="685800"/>
            <a:ext cx="457200" cy="4572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16"/>
          <p:cNvSpPr/>
          <p:nvPr/>
        </p:nvSpPr>
        <p:spPr>
          <a:xfrm>
            <a:off x="7238880" y="472428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7"/>
          <p:cNvSpPr/>
          <p:nvPr/>
        </p:nvSpPr>
        <p:spPr>
          <a:xfrm>
            <a:off x="7543800" y="-15228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8"/>
          <p:cNvSpPr/>
          <p:nvPr/>
        </p:nvSpPr>
        <p:spPr>
          <a:xfrm>
            <a:off x="6858000" y="914400"/>
            <a:ext cx="533520" cy="53352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9"/>
          <p:cNvSpPr/>
          <p:nvPr/>
        </p:nvSpPr>
        <p:spPr>
          <a:xfrm>
            <a:off x="6629400" y="457200"/>
            <a:ext cx="304920" cy="30492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20"/>
          <p:cNvSpPr/>
          <p:nvPr/>
        </p:nvSpPr>
        <p:spPr>
          <a:xfrm>
            <a:off x="6477120" y="838080"/>
            <a:ext cx="228600" cy="2286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21"/>
          <p:cNvSpPr/>
          <p:nvPr/>
        </p:nvSpPr>
        <p:spPr>
          <a:xfrm>
            <a:off x="7010280" y="2971800"/>
            <a:ext cx="381240" cy="3808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22"/>
          <p:cNvSpPr/>
          <p:nvPr/>
        </p:nvSpPr>
        <p:spPr>
          <a:xfrm>
            <a:off x="2666880" y="152280"/>
            <a:ext cx="381240" cy="38124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9" descr="HON_CMYK_Central"/>
          <p:cNvPicPr/>
          <p:nvPr/>
        </p:nvPicPr>
        <p:blipFill>
          <a:blip r:embed="rId1"/>
          <a:srcRect l="40911" t="32353" r="38638" b="32353"/>
          <a:stretch/>
        </p:blipFill>
        <p:spPr>
          <a:xfrm>
            <a:off x="3486240" y="1752480"/>
            <a:ext cx="2209680" cy="294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What services do they ne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04920" y="11430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Of these over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20,000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calls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14,988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are represented in these top 30 referred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TextBox 3" descr=""/>
          <p:cNvPicPr/>
          <p:nvPr/>
        </p:nvPicPr>
        <p:blipFill>
          <a:blip r:embed="rId1"/>
          <a:stretch/>
        </p:blipFill>
        <p:spPr>
          <a:xfrm>
            <a:off x="0" y="1901880"/>
            <a:ext cx="9144000" cy="748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How are these resources manag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837720" y="1905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Two Resource Analysts maintain the </a:t>
            </a:r>
            <a:r>
              <a:rPr b="0" lang="en-US" sz="2200" spc="-1" strike="noStrike">
                <a:solidFill>
                  <a:srgbClr val="a6b936"/>
                </a:solidFill>
                <a:latin typeface="Calibri"/>
                <a:ea typeface="Calibri"/>
              </a:rPr>
              <a:t>HandsOn</a:t>
            </a: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 datab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Over 1000 agencies offering over 5000 serv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Standards require that each agency is formally updated once a y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We work to develop relationships with each agency so that as programs change, we’re notified and can update listings on an ongoing bas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New agencies are added on a daily basis. We learn about new organizations from newspapers, newsletters and community fairs and ev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2-1-1 On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83772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’s database- Online. </a:t>
            </a:r>
            <a:r>
              <a:rPr b="0" lang="en-US" sz="2400" spc="-1" strike="noStrike">
                <a:solidFill>
                  <a:srgbClr val="66b5d9"/>
                </a:solidFill>
                <a:latin typeface="Calibri"/>
                <a:ea typeface="Calibri"/>
              </a:rPr>
              <a:t>2-1-1 Online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provides immediate access to our entire database of human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Available on a subscription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an be accessed through any computer with an internet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Allows subscribers to obtain the most accurate, up-to-date and reliable information on community programs and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Allows us to provide information on seasonal programs and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" descr="twitter_newbird_boxed_blueonwhite.png"/>
          <p:cNvPicPr/>
          <p:nvPr/>
        </p:nvPicPr>
        <p:blipFill>
          <a:blip r:embed="rId1"/>
          <a:stretch/>
        </p:blipFill>
        <p:spPr>
          <a:xfrm>
            <a:off x="1219320" y="25909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Get Connec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52280" y="14475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www.facebook.com/handsoncentral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www.twitter.com/</a:t>
            </a:r>
            <a:r>
              <a:rPr b="0" lang="en-US" sz="2400" spc="-1" strike="noStrike">
                <a:solidFill>
                  <a:srgbClr val="66b5d9"/>
                </a:solidFill>
                <a:latin typeface="Gotham Book"/>
              </a:rPr>
              <a:t>handsoncntrlo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www.handsoncentralohio.blogspot.co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tham 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1728669589.png"/>
          <p:cNvPicPr/>
          <p:nvPr/>
        </p:nvPicPr>
        <p:blipFill>
          <a:blip r:embed="rId2"/>
          <a:stretch/>
        </p:blipFill>
        <p:spPr>
          <a:xfrm>
            <a:off x="1371600" y="1752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blogspot icon.jpg"/>
          <p:cNvPicPr/>
          <p:nvPr/>
        </p:nvPicPr>
        <p:blipFill>
          <a:blip r:embed="rId3"/>
          <a:stretch/>
        </p:blipFill>
        <p:spPr>
          <a:xfrm>
            <a:off x="1371600" y="3581280"/>
            <a:ext cx="68904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Who is HandsOn Central Oh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Over 35 years ago, two collaborating organizations, Volunteer Action Center (VAC) and Caring Answering Listening Linking (CALL) merged to form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CALLVAC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5b554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In 1995, CALLVAC took the nam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FIRSTLINK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, signifying their presence as the go to organization for information and referral and volunteer connection.</a:t>
            </a:r>
            <a:br>
              <a:rPr sz="2400"/>
            </a:br>
            <a:r>
              <a:rPr b="0" lang="en-US" sz="2400" spc="-1" strike="noStrike">
                <a:solidFill>
                  <a:srgbClr val="5b554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In April of 2010, FIRSTLINK joined the national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Network as the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Central Ohio 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affiliate, tapping into national resources at a local level of eng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What does HandsOn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 Central Ohio </a:t>
            </a:r>
            <a:r>
              <a:rPr b="0" i="1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inspires, equips and mobilizes people to create meaningful change in their lives and in their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onnect volunteers to civic engagement opportunities, and coordinate service events for local organ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Link Franklin County residents in need to critical community resources</a:t>
            </a:r>
            <a:r>
              <a:rPr b="1" i="1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5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larendon Light"/>
              </a:rPr>
              <a:t> </a:t>
            </a: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How do we fulfill our mis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761760" y="13716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 Central Ohio 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engages volunteers and connects those in need through our programs and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RSVP and Foster Grand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Dental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Non-Profit Capacity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ommunity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Disaster Prepar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2-1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2-1-1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HandsOn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6b93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RSVP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and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Foster Grandparents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- Volunteer service projects and mentoring opportunities for adults 55 years and o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6b93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Dental OPTIONS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- Partnership between Ohio Dental Association and the Ohio Department of Health, connects people to dentists who have agreed to provide free or reduced cost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6b93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Non-Profit Training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- Non-Profit Leadership Certificate program teaches board development, volunteer and nonprofit management, grant writing and strategic pl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6b93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Disaster Preparedness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- Trains individuals to become a member of Franklin County Citizen Corps and how to respond and effectively volunteer in the event of a dis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Community Eng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33520" y="18284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 Central Ohio 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onnects interested volunteers and organizations with meaningful service opportuniti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Volunteer database of over 2100 ongoing opportunities. These consist of both one-time and continuing engag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Project Calendar allows volunteers to learn about and register for individual or continuing opportunities, and allows organizations to go online an create their own lis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National Days of Service, Make A Differenc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orporate manag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2-1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3772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is Franklin County’s 2-1-1 comprehensive information and referral line, connecting our neighbors to various services and basic human nee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Information and Referral (I&amp;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Foo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Earned Income Tax Credit (EI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Homeowner Hel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Why are people cal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Content Placeholder 5" descr=""/>
          <p:cNvPicPr/>
          <p:nvPr/>
        </p:nvPicPr>
        <p:blipFill>
          <a:blip r:embed="rId1"/>
          <a:stretch/>
        </p:blipFill>
        <p:spPr>
          <a:xfrm>
            <a:off x="330120" y="1320840"/>
            <a:ext cx="8483760" cy="4673520"/>
          </a:xfrm>
          <a:prstGeom prst="rect">
            <a:avLst/>
          </a:prstGeom>
          <a:ln w="0">
            <a:noFill/>
          </a:ln>
        </p:spPr>
      </p:pic>
      <p:sp>
        <p:nvSpPr>
          <p:cNvPr id="416" name="TextBox 6"/>
          <p:cNvSpPr/>
          <p:nvPr/>
        </p:nvSpPr>
        <p:spPr>
          <a:xfrm>
            <a:off x="2057400" y="54864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20, 575 calls in this 6 month tim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Information and Refer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37720" y="17521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all Specialists access a comprehensive database to assist callers 24 hours a day, 7 days a we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Basic Human Needs- Housing, Utilities, Seasonal Programs, Materi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Physical and ment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Support for older adults and persons with dis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Support for children, youth and famil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5:32:24Z</dcterms:created>
  <dc:creator>Marjie Bland</dc:creator>
  <dc:description/>
  <dc:language>en-US</dc:language>
  <cp:lastModifiedBy>Kimberly White</cp:lastModifiedBy>
  <dcterms:modified xsi:type="dcterms:W3CDTF">2011-04-30T02:09:49Z</dcterms:modified>
  <cp:revision>156</cp:revision>
  <dc:subject/>
  <dc:title>Slide 1</dc:title>
</cp:coreProperties>
</file>