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4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5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B156-C817-4DE4-8F72-77D307153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4720-B92E-4358-BC01-71F192D3C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6158-804E-408A-A633-E3131D1D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B2A-B9C0-49E2-970D-B37D0A3B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7FC-D58F-4952-BEF4-29775369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B46-7B24-4EBE-951A-1EA6DF27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291-2A56-4D82-886B-408ED5A2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EDC-764E-4833-B205-4168BB6F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25B1-023E-4E5F-96FC-429C78E0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A80D-8D5F-44CB-8CBE-DDEDF163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9048-BA46-458F-BEC0-B9BC1BB5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2FCE-7147-413B-BE8A-8927665C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8F3F-A182-44F0-AB58-D591F0B7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63C-FF00-43A3-A99A-385E959F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01BB-B1EF-4A25-91A2-932E8A75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9832-2C5B-4A39-A15D-0978504C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1756-D71E-4CEA-B622-EE89D6BF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4732-885F-48E8-92BD-3629EC42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03F8-6EE5-4168-B3D5-88FC55BA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A640-B9DB-4AF0-8F50-0C882901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DDFC-0A03-4268-8405-D549A78E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C506-5515-41F2-B0C7-FC4CBC9F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B864-F9F2-4A74-B1FA-62DD859D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29E4-A2D4-4DDE-9C6E-1F43253D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64F-54D9-4EEC-90EB-8D23CFB0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529C-6DCA-4A42-AAE5-2EA9D121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D031-2E33-40FF-B1A5-5F72F1EE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B0F2D-DA12-499B-8937-93BDEBED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8C59-1B22-43EF-8DE0-4516CCB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CD195-C487-4E64-858B-AD61FA91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45F9E-B78E-496A-B062-74E732C0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025A-7BED-42B1-94EF-B6CD97E7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E324-FDBE-4A6B-BE33-0FA90CD5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B05F-1E7A-45A4-9F74-0B45AC51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F1AC8-A812-41A4-8D29-BBB04CAD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EF7-1074-4F46-8ACB-7154C89B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13A9A-DFA1-4729-94E8-649536CE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9EB44-D21B-48F5-AE36-04F58FB5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CC57-2CCF-4DD6-8EF3-12C353A2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DD7B4-465C-430F-A26D-2B41922F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0C8C-33AF-40F8-BAE9-B70769A2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B2E9-A477-45A8-8166-BE4C9EF7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114F7-756E-43BB-9DD1-4FD1DF4E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75AC5-4833-48D5-95AC-D86873C2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4AFEA-B7C9-42C3-9104-4313310B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B59EE-B018-4483-89F4-3AA633FE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99A-8991-4021-96A1-B809215D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57F9-BB7B-4B5B-AD1A-AED70986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EF1-31E1-4972-A364-2215642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511-B8BC-40D7-9A2C-2489F2F6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F57-E15E-434F-89CB-E9C953A2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1254-D452-47E8-9902-374EEAC57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3276720" y="472428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larendon Light"/>
              </a:rPr>
              <a:t>Be th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9" descr="HON_CMYK_Central"/>
          <p:cNvPicPr/>
          <p:nvPr/>
        </p:nvPicPr>
        <p:blipFill>
          <a:blip r:embed="rId2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4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5799504-2643x1852"/>
          <p:cNvPicPr/>
          <p:nvPr/>
        </p:nvPicPr>
        <p:blipFill>
          <a:blip r:embed="rId2"/>
          <a:stretch/>
        </p:blipFill>
        <p:spPr>
          <a:xfrm>
            <a:off x="4419720" y="1981080"/>
            <a:ext cx="4419360" cy="4416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00" name="Oval 15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7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663E-708D-4BCC-824C-6FA994E01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" descr="11314373-1594x2400"/>
          <p:cNvPicPr/>
          <p:nvPr/>
        </p:nvPicPr>
        <p:blipFill>
          <a:blip r:embed="rId2"/>
          <a:stretch/>
        </p:blipFill>
        <p:spPr>
          <a:xfrm>
            <a:off x="4038480" y="1752480"/>
            <a:ext cx="4660920" cy="465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51" name="Oval 9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B419-C926-492A-AC80-A424A1353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9"/>
          <p:cNvSpPr/>
          <p:nvPr/>
        </p:nvSpPr>
        <p:spPr>
          <a:xfrm>
            <a:off x="-533520" y="380880"/>
            <a:ext cx="2187720" cy="2187720"/>
          </a:xfrm>
          <a:prstGeom prst="ellipse">
            <a:avLst/>
          </a:prstGeom>
          <a:solidFill>
            <a:srgbClr val="d2db61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02" name="Oval 13"/>
          <p:cNvSpPr/>
          <p:nvPr/>
        </p:nvSpPr>
        <p:spPr>
          <a:xfrm>
            <a:off x="8381880" y="4114800"/>
            <a:ext cx="1067040" cy="1066680"/>
          </a:xfrm>
          <a:prstGeom prst="ellipse">
            <a:avLst/>
          </a:prstGeom>
          <a:solidFill>
            <a:srgbClr val="96908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6DC7-D115-4167-A31C-B9616233E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4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val 4"/>
          <p:cNvSpPr/>
          <p:nvPr/>
        </p:nvSpPr>
        <p:spPr>
          <a:xfrm>
            <a:off x="609480" y="2286000"/>
            <a:ext cx="2286000" cy="22860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429000" y="2286000"/>
            <a:ext cx="2286000" cy="22860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324480" y="2286000"/>
            <a:ext cx="2286000" cy="22860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4"/>
          <p:cNvSpPr/>
          <p:nvPr/>
        </p:nvSpPr>
        <p:spPr>
          <a:xfrm>
            <a:off x="2362320" y="1143000"/>
            <a:ext cx="4724280" cy="472428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609480" y="6094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152280" y="3657600"/>
            <a:ext cx="381240" cy="3808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8458200" y="5105520"/>
            <a:ext cx="422280" cy="4222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8534520" y="4572000"/>
            <a:ext cx="225360" cy="22536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1219320" y="4343400"/>
            <a:ext cx="685800" cy="685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7467480" y="380880"/>
            <a:ext cx="83844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1770120" y="100800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2424240" y="61578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6934320" y="9144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270920" y="5823000"/>
            <a:ext cx="469800" cy="469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609480" y="5715000"/>
            <a:ext cx="685800" cy="6858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7"/>
          <p:cNvSpPr/>
          <p:nvPr/>
        </p:nvSpPr>
        <p:spPr>
          <a:xfrm>
            <a:off x="8305920" y="647712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8"/>
          <p:cNvSpPr/>
          <p:nvPr/>
        </p:nvSpPr>
        <p:spPr>
          <a:xfrm>
            <a:off x="2438280" y="228600"/>
            <a:ext cx="374760" cy="37476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9" descr="HON_CMYK_Central"/>
          <p:cNvPicPr/>
          <p:nvPr/>
        </p:nvPicPr>
        <p:blipFill>
          <a:blip r:embed="rId1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services do they n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f these over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20,000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calls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14,988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re represented in these top 30 referre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TextBox 3" descr="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74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are these resources manag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7720" y="1905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Two Resource Analysts maintain the </a:t>
            </a:r>
            <a:r>
              <a:rPr b="0" lang="en-US" sz="22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Over 1000 agencies offering over 5000 ser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Standards require that each agency is formally updated once a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We work to develop relationships with each agency so that as programs change, we’re notified and can update listings on an ongoing b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New agencies are added on a daily basis. We learn about new organizations from newspapers, newsletters and community fairs and ev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’s database- Online. </a:t>
            </a:r>
            <a:r>
              <a:rPr b="0" lang="en-US" sz="24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provides immediate access to our entire database of human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vailable on a subscription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n be accessed through any computer with an interne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subscribers to obtain the most accurate, up-to-date and reliable information on community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us to provide information on seasonal programs and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twitter_newbird_boxed_blueonwhite.png"/>
          <p:cNvPicPr/>
          <p:nvPr/>
        </p:nvPicPr>
        <p:blipFill>
          <a:blip r:embed="rId1"/>
          <a:stretch/>
        </p:blipFill>
        <p:spPr>
          <a:xfrm>
            <a:off x="1219320" y="25909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Get Conn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facebook.com/handsoncentral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twitter.com/</a:t>
            </a:r>
            <a:r>
              <a:rPr b="0" lang="en-US" sz="2400" spc="-1" strike="noStrike">
                <a:solidFill>
                  <a:srgbClr val="66b5d9"/>
                </a:solidFill>
                <a:latin typeface="Gotham Book"/>
              </a:rPr>
              <a:t>handsoncntrl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handsoncentralohio.blogspot.co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1728669589.png"/>
          <p:cNvPicPr/>
          <p:nvPr/>
        </p:nvPicPr>
        <p:blipFill>
          <a:blip r:embed="rId2"/>
          <a:stretch/>
        </p:blipFill>
        <p:spPr>
          <a:xfrm>
            <a:off x="137160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blogspot icon.jpg"/>
          <p:cNvPicPr/>
          <p:nvPr/>
        </p:nvPicPr>
        <p:blipFill>
          <a:blip r:embed="rId3"/>
          <a:stretch/>
        </p:blipFill>
        <p:spPr>
          <a:xfrm>
            <a:off x="1371600" y="3581280"/>
            <a:ext cx="68904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o is HandsOn Central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ver 35 years ago, two collaborating organizations, Volunteer Action Center (VAC) and Caring Answering Listening Linking (CALL) merged to form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ALLVAC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1995, CALLVAC took the na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IRSTLINK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, signifying their presence as the go to organization for information and referral and volunteer connection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April of 2010, FIRSTLINK joined the national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Network as the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ffiliate, tapping into national resources at a local level of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does HandsOn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spires, equips and mobilizes people to create meaningful change in their lives and in their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 volunteers to civic engagement opportunities, and coordinate service events for local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Link Franklin County residents in need to critical community resources</a:t>
            </a:r>
            <a:r>
              <a:rPr b="1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5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larendon Light"/>
              </a:rPr>
              <a:t> </a:t>
            </a: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do we fulfill our m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1760" y="13716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ngages volunteers and connects those in need through our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RSVP and Foster 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ental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on-Profit 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mmunity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isaster Prepar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ands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RSVP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nd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Foster Grandparent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Volunteer service projects and mentoring opportunities for adults 55 years and 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ental OPTION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Partnership between Ohio Dental Association and the Ohio Department of Health, connects people to dentists who have agreed to provide free or reduced cos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Non-Profit Training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Non-Profit Leadership Certificate program teaches board development, volunteer and nonprofit management, grant writing and strategic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isaster Preparednes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Trains individuals to become a member of Franklin County Citizen Corps and how to respond and effectively volunteer in the event of a dis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Community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3520" y="18284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s interested volunteers and organizations with meaningful service opportunit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Volunteer database of over 2100 ongoing opportunities. These consist of both one-time and continuing engag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roject Calendar allows volunteers to learn about and register for individual or continuing opportunities, and allows organizations to go online an create their own lis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ational Days of Service, Make A Differenc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rporate manag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is Franklin County’s 2-1-1 comprehensive information and referral line, connecting our neighbors to various services and basic human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formation and Referral (I&amp;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Foo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arned Income Tax Credit (EI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Homeowner Hel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y are people cal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1"/>
          <a:stretch/>
        </p:blipFill>
        <p:spPr>
          <a:xfrm>
            <a:off x="330120" y="1320840"/>
            <a:ext cx="8483760" cy="4673520"/>
          </a:xfrm>
          <a:prstGeom prst="rect">
            <a:avLst/>
          </a:prstGeom>
          <a:ln w="0">
            <a:noFill/>
          </a:ln>
        </p:spPr>
      </p:pic>
      <p:sp>
        <p:nvSpPr>
          <p:cNvPr id="416" name="TextBox 6"/>
          <p:cNvSpPr/>
          <p:nvPr/>
        </p:nvSpPr>
        <p:spPr>
          <a:xfrm>
            <a:off x="2057400" y="5486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0, 575 calls in this 6 month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Information and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7720" y="1752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ll Specialists access a comprehensive database to assist callers 24 hours a day, 7 days a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Basic Human Needs- Housing, Utilities, Seasonal Programs, Materi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hysical and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older adults and persons with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children, youth and fami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5:32:24Z</dcterms:created>
  <dc:creator>Marjie Bland</dc:creator>
  <dc:description/>
  <dc:language>en-US</dc:language>
  <cp:lastModifiedBy>Kimberly White</cp:lastModifiedBy>
  <dcterms:modified xsi:type="dcterms:W3CDTF">2011-04-30T02:09:49Z</dcterms:modified>
  <cp:revision>156</cp:revision>
  <dc:subject/>
  <dc:title>Slide 1</dc:title>
</cp:coreProperties>
</file>